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92B4-0A73-4E06-8114-CE99233E4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493D-B55D-4663-9B0D-B4229C22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263C-743B-48D5-AA79-F2E623B91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4D38-FF4F-426C-A2C8-8C3D9E86E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E632-70D2-4D62-8FFF-1F14FC4C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FB37-D4E6-4DD1-94FB-B1A6DDBE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47EC-29C8-494A-9D1A-AC72C095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8FA5-6CFE-400D-AAF2-F120D740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7C94-CB2A-47B0-A5F2-391A964A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5F33-8FC8-45C4-8658-64A919BD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4662-3E67-4AB9-8E27-20999053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2755-7AC7-42A9-BDAD-69A73D3E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F587-9DDC-486F-A3AE-0EA3F4C1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0345-0218-40F4-89AA-F51D89F9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C364-25E9-40E6-970D-2DE473DC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2F5F-0F56-4571-BE8B-1849FF41B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3AAB-CE3C-41A7-857A-C1B4E9841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95703-3B78-45DA-996D-C1C677709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38344-09D8-4F5F-AD11-9DF09E34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B3F7F-F062-4A6B-A8BD-CDFCAA73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0C7BB-CB0B-4B8A-8053-8562D2EB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DD19A-7DEE-4C3E-BB4A-BE4D3335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2908-8751-4209-BCD8-F490E90F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F80C8-E8FD-4C43-BD42-71B2D30D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95919-F2D0-4C0A-A630-71BF33F1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A0C67-1370-4B62-9B13-290295FB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6D6F1-D152-48CF-91B5-E3D934F2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A201C-A55D-4CB4-B78F-D9DEF049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175E0-B55F-49BA-8382-16B5567CA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4B4D7-384B-497B-9F79-51FBE020C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5A0D2-9945-4A59-932A-135C6C1CF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FE08F-A4A6-42CB-BAD0-B34C1541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6A191-CDB0-47CA-9B75-923E4101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4DD1-7845-43EA-A638-1398C0A4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A90CA-9A93-4CA7-A7ED-3F33DD5B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77802-DDD3-4E74-B997-BA44DEC7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43A03-F84E-4992-A497-8FED5F31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55F01-AEF1-47E0-90E1-4445B9C9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3A941-774A-4D25-A1C8-E184D9AF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9C0DB-EA7E-41D9-ABB5-180F401D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99B21-633B-466A-8149-782A3F20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FC23E-097F-4036-988B-913898788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F930F-9052-4E97-84A7-A8F4255FE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1338C-B245-46A3-999E-24B2AFECA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2DD1-09F9-428E-A227-86ED0AAD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8D989-EFB2-4C36-8A23-242A89BA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E6359-ABD1-4F63-B49B-35C899AB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B2333-0745-460C-8A80-7693B9BA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C2810-FAC5-40A0-8473-A11195CB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37B96-416B-42D8-BC28-781C30B0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89CF8-2D1B-479B-951D-5FD14991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2330A-9663-4401-B158-DCB0F0A5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75DE4-92FA-4371-8F35-584707EB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3FE02-2245-440F-9230-551D9797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CDCCD-D408-4FF1-84D1-900228AF0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8667-8FE2-4479-8760-9F3005EE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C698B-03D6-4881-8EDF-47ACBFC62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05E01-2ADF-496F-A974-C37DEE3BA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2F879-9349-404C-9356-52F12402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8F9D9-F6F3-43C8-9960-8FA2B2AF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83D97-ABF7-45CF-8E82-50E792FA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82276-BBE6-46FF-9A20-A3F8FABE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231EF-2614-4137-8F64-2D8F3833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FCD44-D9CB-4E55-844F-A8BE9B7E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0F5E9-30CF-4EC8-B102-53940106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B7DED-02A3-4A64-A6DF-A893CAFA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3533-0EC0-4FC0-AAF8-3F996876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A67CC-98A3-4CEB-87F8-5FBBB91E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6C107-7601-491C-8440-3B39882A1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5730A-83F5-4F19-9DF9-90ADAB2FB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29842-96AE-4E71-89FE-E858045EF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90797-944C-4F71-914E-66392C29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990E4-865F-48FB-898E-45743332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09DAA-E52B-4D83-868D-933F291F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0E17B-52CE-4AE6-8819-788B73DA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2C172-7FD4-41FD-B129-C16E4E73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A70C3-36AE-459D-BCDC-B390A424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0231-693B-47D3-9E23-7163810D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71817-1F34-4E46-8B26-08CFD7D7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F2591-ED3F-41D8-B989-A0B53B40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F1DE6-85FC-4E22-A170-6B1F7803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7800A-309D-4874-8D75-5856C31D0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66C84-6428-458D-912F-E85E77B64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82AA-362A-4409-9DB2-FC7D2CC3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4105-4428-40F1-984D-48D1D2303A6B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9EB1-893B-401E-AC2F-6A8872C9E38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492A-5538-4F21-8FB0-F12F6DC7034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60D5-482B-4FAE-8BB0-289D7F81DC8F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85B6-7434-4D3D-B633-7F7262721DCB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35BD-EC95-49E9-8C3E-503CAAB51644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9AF6-8F24-47DD-8BB0-44BF957BD34E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420840" y="3176640"/>
            <a:ext cx="8351640" cy="18590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28760" y="5214600"/>
            <a:ext cx="807696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и исследования учеников 5 класса: Тарабукина Татьяна и Петрова Елена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165240" y="146160"/>
            <a:ext cx="8923320" cy="60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225360" y="0"/>
            <a:ext cx="8553600" cy="14079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" descr=""/>
          <p:cNvPicPr/>
          <p:nvPr/>
        </p:nvPicPr>
        <p:blipFill>
          <a:blip r:embed="rId2"/>
          <a:stretch/>
        </p:blipFill>
        <p:spPr>
          <a:xfrm>
            <a:off x="3643200" y="2428920"/>
            <a:ext cx="180036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195120" y="23760"/>
            <a:ext cx="8504280" cy="26226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"/>
          <p:cNvPicPr/>
          <p:nvPr/>
        </p:nvPicPr>
        <p:blipFill>
          <a:blip r:embed="rId2"/>
          <a:stretch/>
        </p:blipFill>
        <p:spPr>
          <a:xfrm>
            <a:off x="3643200" y="3143160"/>
            <a:ext cx="230508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219240" y="-19080"/>
            <a:ext cx="8474040" cy="14335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"/>
          <p:cNvPicPr/>
          <p:nvPr/>
        </p:nvPicPr>
        <p:blipFill>
          <a:blip r:embed="rId2"/>
          <a:stretch/>
        </p:blipFill>
        <p:spPr>
          <a:xfrm>
            <a:off x="3071880" y="2928960"/>
            <a:ext cx="25812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195120" y="-201600"/>
            <a:ext cx="8809200" cy="26398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" descr=""/>
          <p:cNvPicPr/>
          <p:nvPr/>
        </p:nvPicPr>
        <p:blipFill>
          <a:blip r:embed="rId2"/>
          <a:stretch/>
        </p:blipFill>
        <p:spPr>
          <a:xfrm>
            <a:off x="3429000" y="3214800"/>
            <a:ext cx="19717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189000" y="36360"/>
            <a:ext cx="8669160" cy="29689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" descr=""/>
          <p:cNvPicPr/>
          <p:nvPr/>
        </p:nvPicPr>
        <p:blipFill>
          <a:blip r:embed="rId2"/>
          <a:stretch/>
        </p:blipFill>
        <p:spPr>
          <a:xfrm>
            <a:off x="3357720" y="3143160"/>
            <a:ext cx="228600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2:23:45Z</dcterms:created>
  <dc:creator>Пользователь</dc:creator>
  <dc:description/>
  <dc:language>en-US</dc:language>
  <cp:lastModifiedBy>Пользователь</cp:lastModifiedBy>
  <dcterms:modified xsi:type="dcterms:W3CDTF">2010-05-23T12:38:22Z</dcterms:modified>
  <cp:revision>2</cp:revision>
  <dc:subject/>
  <dc:title>Пятиконечные и другие звезды. </dc:title>
</cp:coreProperties>
</file>